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389-3FCB-4933-9E04-68D88102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96D-49D3-4CDA-9000-405F63CD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AE6-F837-45F6-BA05-876D69F7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2DB-C13D-463A-A852-0B349690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FAA-48BA-4B36-B8A4-22874863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BB7-2481-49B6-9D7E-7F1CB5BC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A45-BE19-4AEE-B045-A7F1693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848-FC3D-44E3-9C67-10B6AFC2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4E6-856F-4E4B-935E-0D26DBE4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DF1-1939-4250-B598-3C91427A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FAC-718C-4AE4-801F-3D6813F1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903-DF7A-4A9B-A508-5CE832F1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1E39-E30A-4A02-AE52-264486AA8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omated Teller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or B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ss of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sue relates to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sue relates to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dition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’s where you can add any other issues that you hav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igh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weigh up all the issues and decide…are ATMs good or b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ould use terminology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pite the fact that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hough the issues of ….., the main overriding advantag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all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n AT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then describe how an ATM works – you do not need to be too technical. Imagine your audience is a Year 7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the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00000" y="2060280"/>
            <a:ext cx="6872400" cy="35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nking to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ienation and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s of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and Anonym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of Ac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ization and Cultural Divers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and Standa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nd Mach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ienation and 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ss of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sue relates to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line in employ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in employment in computer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lienation and customer servi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sue relates to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s human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sue relates to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4:43:15Z</dcterms:created>
  <dc:creator>mabr</dc:creator>
  <dc:description/>
  <dc:language>en-US</dc:language>
  <cp:lastModifiedBy>Administrator</cp:lastModifiedBy>
  <dcterms:modified xsi:type="dcterms:W3CDTF">2005-10-06T05:09:02Z</dcterms:modified>
  <cp:revision>7</cp:revision>
  <dc:subject/>
  <dc:title>Automated Teller Machines</dc:title>
</cp:coreProperties>
</file>